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ACE4-D2DE-4A2C-BBB9-D750D6110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79DC-16C3-4056-A3D4-7E81D73B4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00C5-636D-4009-9E11-5029E9E6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1C07-1A54-4935-A326-9A06151B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5B7A-B7A7-414D-9AD0-1AF4CE70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C3E0-FBB4-4E03-A1AE-F99EBA27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3A4-C776-4AF7-81B4-15971FA9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D2BE-A74E-4936-AFF8-8A11E7D1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1591-0272-4120-8FB3-720BCA81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9589-6BBD-4E7F-9A76-1523F494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77FA-50B5-4AB0-9F45-F700372A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5AFD-1F88-43C2-8989-037173E5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C9D6-C48E-46BD-BFCD-724A8BD6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1C43-D97D-426E-9FD4-66E0604A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118E-BF87-4898-AB2F-10C36FEA6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CHELLE CORREA </a:t>
            </a:r>
            <a:r>
              <a:rPr b="0" lang="es-ES_tradnl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905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mi nombre es Michelle. Yo tengo catorce Años. Yo vivo e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eva York. Yo tengo dos hermanas. Yo soy Simpatica y divertida. Yo estoy feliz. Yo amo la musi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60480" y="5486400"/>
            <a:ext cx="671400" cy="1011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334120"/>
            <a:ext cx="536760" cy="780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49528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616896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228600" y="66420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4864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ien y quieres er al parke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Hola Cómo están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amig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, bien y si pero a que hora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 las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ta bien.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990720" y="6095880"/>
            <a:ext cx="480960" cy="3812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866520" y="659124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8:27:39Z</dcterms:modified>
  <cp:revision>105</cp:revision>
  <dc:subject/>
  <dc:title>Profile</dc:title>
</cp:coreProperties>
</file>